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DFE07-C8E4-447E-84AF-7FC5F0888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C53B-73A0-49EA-B807-19FE3B4A9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4A8AD-CC3B-40CA-92BE-0989D3A76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789A8-CFAD-4BC7-952D-FD19647E1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32D41-79BB-41AF-9D2B-76A30B394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607C1-BC0B-4998-B7E0-0533B60A8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D6FD7-4EF0-478F-A84F-D633F1E04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4E4F2-CE02-4E6B-9407-DD7157AB2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549B2-95A6-452A-B5A5-42C92612E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681FE-9E96-4D81-BF6C-B2EC31AC3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CBAE1-D0D6-4842-8D06-F928C23C5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B869-80DC-4AEB-9618-7712B7B2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7CFDD-511B-4AD4-A808-A67CA2395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A25F9-1BAB-443B-9A9B-0E0933C1A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4EDF7-936F-48B8-99B0-8E72B1C3A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F9BAB-954E-4A88-9814-31C51D410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F71FD-C112-4D93-B052-D8872AF67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B2AF-F540-43B4-B058-2F7D77586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10B5-D100-4E16-8A07-F5B9BE128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43361-C221-42C1-B7C6-AA4D79168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C62E-0D4A-4320-A821-E1B1FFB5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2E9B-FA9F-41CE-89A6-5FB2D500F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D3BE8-C3D9-4130-AB3A-368C89F7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BC5B5-728A-44F3-8622-C8DCCC578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CF8E-5789-4B5D-AF10-B7252328F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87" name="Freeform 1026"/>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1032"/>
          <p:cNvGrpSpPr/>
          <p:nvPr/>
        </p:nvGrpSpPr>
        <p:grpSpPr>
          <a:xfrm>
            <a:off x="195120" y="235080"/>
            <a:ext cx="3787920" cy="1778040"/>
            <a:chOff x="195120" y="235080"/>
            <a:chExt cx="3787920" cy="1778040"/>
          </a:xfrm>
        </p:grpSpPr>
        <p:sp>
          <p:nvSpPr>
            <p:cNvPr id="89" name="Freeform 1033"/>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34"/>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035"/>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036"/>
            <p:cNvGrpSpPr/>
            <p:nvPr/>
          </p:nvGrpSpPr>
          <p:grpSpPr>
            <a:xfrm>
              <a:off x="195120" y="235080"/>
              <a:ext cx="3787920" cy="1716120"/>
              <a:chOff x="195120" y="235080"/>
              <a:chExt cx="3787920" cy="1716120"/>
            </a:xfrm>
          </p:grpSpPr>
          <p:sp>
            <p:nvSpPr>
              <p:cNvPr id="93" name="Freeform 1037"/>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038"/>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039"/>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040"/>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041"/>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042"/>
          <p:cNvGrpSpPr/>
          <p:nvPr/>
        </p:nvGrpSpPr>
        <p:grpSpPr>
          <a:xfrm>
            <a:off x="7797600" y="4318560"/>
            <a:ext cx="979920" cy="1159560"/>
            <a:chOff x="7797600" y="4318560"/>
            <a:chExt cx="979920" cy="1159560"/>
          </a:xfrm>
        </p:grpSpPr>
        <p:sp>
          <p:nvSpPr>
            <p:cNvPr id="99" name="Freeform 1043"/>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1044"/>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1045"/>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1046"/>
            <p:cNvGrpSpPr/>
            <p:nvPr/>
          </p:nvGrpSpPr>
          <p:grpSpPr>
            <a:xfrm>
              <a:off x="7797600" y="4318560"/>
              <a:ext cx="979920" cy="1159560"/>
              <a:chOff x="7797600" y="4318560"/>
              <a:chExt cx="979920" cy="1159560"/>
            </a:xfrm>
          </p:grpSpPr>
          <p:sp>
            <p:nvSpPr>
              <p:cNvPr id="103" name="Freeform 1047"/>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1048"/>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1049"/>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1050"/>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1051"/>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1052"/>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1053"/>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8E35-999E-4BA9-9F7B-092FA1B0E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142640"/>
            <a:ext cx="73152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6000" spc="-1" strike="noStrike">
                <a:solidFill>
                  <a:srgbClr val="ff0000"/>
                </a:solidFill>
                <a:latin typeface="Comic Sans MS"/>
              </a:rPr>
              <a:t>Steal This Paper!</a:t>
            </a:r>
            <a:endParaRPr b="0" lang="en-US" sz="6000" spc="-1" strike="noStrike">
              <a:solidFill>
                <a:srgbClr val="000000"/>
              </a:solidFill>
              <a:latin typeface="Comic Sans MS"/>
            </a:endParaRPr>
          </a:p>
        </p:txBody>
      </p:sp>
      <p:sp>
        <p:nvSpPr>
          <p:cNvPr id="152" name="PlaceHolder 2"/>
          <p:cNvSpPr>
            <a:spLocks noGrp="1"/>
          </p:cNvSpPr>
          <p:nvPr>
            <p:ph type="subTitle"/>
          </p:nvPr>
        </p:nvSpPr>
        <p:spPr>
          <a:xfrm>
            <a:off x="1523520" y="350496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mic Sans MS"/>
              </a:rPr>
              <a:t>A plagiarism workshop for High School Sophomores</a:t>
            </a:r>
            <a:endParaRPr b="0" lang="en-US" sz="2800" spc="-1" strike="noStrike">
              <a:solidFill>
                <a:srgbClr val="000000"/>
              </a:solidFill>
              <a:latin typeface="Comic Sans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werPoint created and adapted by M. Blackburn 2005</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Definitions of Plagiarism</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LA (Modern Language Association) defines plagiarism as:</a:t>
            </a:r>
            <a:endParaRPr b="0" lang="en-US" sz="2000" spc="-1" strike="noStrike">
              <a:solidFill>
                <a:srgbClr val="000000"/>
              </a:solidFill>
              <a:latin typeface="Comic Sans MS"/>
            </a:endParaRPr>
          </a:p>
          <a:p>
            <a:pPr marL="33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use another person's ideas or expressions in your writing without acknowledging the source is to plagiarize. Plagiarism, then, constitutes </a:t>
            </a:r>
            <a:r>
              <a:rPr b="1" lang="en-US" sz="2000" spc="-1" strike="noStrike" u="sng">
                <a:solidFill>
                  <a:srgbClr val="000000"/>
                </a:solidFill>
                <a:uFillTx/>
                <a:latin typeface="Comic Sans MS"/>
              </a:rPr>
              <a:t>intellectual theft</a:t>
            </a:r>
            <a:r>
              <a:rPr b="0" lang="en-US" sz="2000" spc="-1" strike="noStrike">
                <a:solidFill>
                  <a:srgbClr val="000000"/>
                </a:solidFill>
                <a:latin typeface="Comic Sans MS"/>
              </a:rPr>
              <a:t> and often carries </a:t>
            </a:r>
            <a:r>
              <a:rPr b="1" lang="en-US" sz="2000" spc="-1" strike="noStrike" u="sng">
                <a:solidFill>
                  <a:srgbClr val="000000"/>
                </a:solidFill>
                <a:uFillTx/>
                <a:latin typeface="Comic Sans MS"/>
              </a:rPr>
              <a:t>severe penalties</a:t>
            </a:r>
            <a:r>
              <a:rPr b="0" lang="en-US" sz="2000" spc="-1" strike="noStrike">
                <a:solidFill>
                  <a:srgbClr val="000000"/>
                </a:solidFill>
                <a:latin typeface="Comic Sans MS"/>
              </a:rPr>
              <a:t>, ranging from failure in a course to expulsion from school." [taken from the MLA Handbook for Writers of Research Papers, 4th ed.] (bold and underlining added)</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Definitions of Plagiarism</a:t>
            </a:r>
            <a:endParaRPr b="0" lang="en-US" sz="4400" spc="-1" strike="noStrike">
              <a:solidFill>
                <a:srgbClr val="000000"/>
              </a:solidFill>
              <a:latin typeface="Comic Sans MS"/>
            </a:endParaRPr>
          </a:p>
        </p:txBody>
      </p:sp>
      <p:sp>
        <p:nvSpPr>
          <p:cNvPr id="172" name="PlaceHolder 2"/>
          <p:cNvSpPr>
            <a:spLocks noGrp="1"/>
          </p:cNvSpPr>
          <p:nvPr>
            <p:ph/>
          </p:nvPr>
        </p:nvSpPr>
        <p:spPr>
          <a:xfrm>
            <a:off x="609480" y="1676520"/>
            <a:ext cx="7925040" cy="35049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tudent handbook AND Honor Code [GCS] also define Plagiarism:</a:t>
            </a:r>
            <a:endParaRPr b="0" lang="en-US" sz="2400" spc="-1" strike="noStrike">
              <a:solidFill>
                <a:srgbClr val="000000"/>
              </a:solidFill>
              <a:latin typeface="Comic Sans MS"/>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y put, plagiarism is improperly </a:t>
            </a:r>
            <a:r>
              <a:rPr b="1" lang="en-US" sz="2400" spc="-1" strike="noStrike" u="sng">
                <a:solidFill>
                  <a:srgbClr val="000000"/>
                </a:solidFill>
                <a:uFillTx/>
                <a:latin typeface="Comic Sans MS"/>
              </a:rPr>
              <a:t>using someone else’s words or ideas in your work</a:t>
            </a:r>
            <a:r>
              <a:rPr b="1" lang="en-US" sz="2400" spc="-1" strike="noStrike">
                <a:solidFill>
                  <a:srgbClr val="000000"/>
                </a:solidFill>
                <a:latin typeface="Comic Sans MS"/>
              </a:rPr>
              <a:t>;</a:t>
            </a:r>
            <a:r>
              <a:rPr b="0" lang="en-US" sz="2400" spc="-1" strike="noStrike">
                <a:solidFill>
                  <a:srgbClr val="000000"/>
                </a:solidFill>
                <a:latin typeface="Comic Sans MS"/>
              </a:rPr>
              <a:t> “the wrongful act of taking the product of another person’s mind and presenting it as one’s ow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What counts as "other people's ideas"?</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words quoted directly from another source. </a:t>
            </a:r>
            <a:endParaRPr b="0" lang="en-US" sz="2400" spc="-1" strike="noStrike">
              <a:solidFill>
                <a:srgbClr val="000000"/>
              </a:solidFill>
              <a:latin typeface="Comic Sans MS"/>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deas paraphrased from a source </a:t>
            </a:r>
            <a:endParaRPr b="0" lang="en-US" sz="2400" spc="-1" strike="noStrike">
              <a:solidFill>
                <a:srgbClr val="000000"/>
              </a:solidFill>
              <a:latin typeface="Comic Sans MS"/>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deas borrowed from another source: statistics, graphs, charts. </a:t>
            </a:r>
            <a:endParaRPr b="0" lang="en-US" sz="2400" spc="-1" strike="noStrike">
              <a:solidFill>
                <a:srgbClr val="000000"/>
              </a:solidFill>
              <a:latin typeface="Comic Sans MS"/>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deas or materials taken from the Intern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u="sng">
                <a:solidFill>
                  <a:srgbClr val="000000"/>
                </a:solidFill>
                <a:uFillTx/>
                <a:latin typeface="Comic Sans MS"/>
              </a:rPr>
              <a:t>What doesn't count?</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do not have to cite sources for knowledge that is generally known (Common Knowledge), like the dates of famous events in history or the names of past Prime ministers. Common knowledge: facts that can be found in numerous places and are likely to be known by a lot of people; for example: John F. Kennedy was elected President of the United States in 1960.  This is generally known information. You do not need to document this fa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u="sng">
                <a:solidFill>
                  <a:srgbClr val="000000"/>
                </a:solidFill>
                <a:uFillTx/>
                <a:latin typeface="Comic Sans MS"/>
              </a:rPr>
              <a:t>What else doesn't count?</a:t>
            </a:r>
            <a:r>
              <a:rPr b="0" lang="es-CO"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ithin a certain field, there may be terms which are "common knowledge" because they are part of the knowledge shared by people in that field, like the "language experience approach' for educators, or the term "Impressionism" for art enthusias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how to cite your sources using the appropriate style manual. </a:t>
            </a:r>
            <a:endParaRPr b="0" lang="en-US" sz="2400" spc="-1" strike="noStrike">
              <a:solidFill>
                <a:srgbClr val="000000"/>
              </a:solidFill>
              <a:latin typeface="Comic Sans MS"/>
            </a:endParaRPr>
          </a:p>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a sequence of sentences or word language of another author's work is considered an act of plagiarism. </a:t>
            </a:r>
            <a:endParaRPr b="0" lang="en-US" sz="2400" spc="-1" strike="noStrike">
              <a:solidFill>
                <a:srgbClr val="000000"/>
              </a:solidFill>
              <a:latin typeface="Comic Sans MS"/>
            </a:endParaRPr>
          </a:p>
          <a:p>
            <a:pPr marL="343080" indent="-343080">
              <a:lnSpc>
                <a:spcPct val="13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careful notes and documentation as you do your research.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dvisable not to "overquote" in your paper. Remember the paper should be made up of your own ideas and argumen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ing information from the Internet or any other electronic database product to include in your paper, without citing its source, is considered an act of plagiarism.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te ideas from other sources when they add weight to your own argument or idea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how to paraphrase wisely using your own words and citing the source appropriately.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quotation marks even if a footnote is provided. </a:t>
            </a:r>
            <a:endParaRPr b="0" lang="en-US" sz="2400" spc="-1" strike="noStrike">
              <a:solidFill>
                <a:srgbClr val="000000"/>
              </a:solidFill>
              <a:latin typeface="Comic Sans MS"/>
            </a:endParaRPr>
          </a:p>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difference between a bibliography and a works cited list. Your </a:t>
            </a:r>
            <a:r>
              <a:rPr b="1" lang="en-US" sz="2400" spc="-1" strike="noStrike">
                <a:solidFill>
                  <a:srgbClr val="000000"/>
                </a:solidFill>
                <a:latin typeface="Comic Sans MS"/>
              </a:rPr>
              <a:t>Works Cited</a:t>
            </a:r>
            <a:r>
              <a:rPr b="0" lang="en-US" sz="2400" spc="-1" strike="noStrike">
                <a:solidFill>
                  <a:srgbClr val="000000"/>
                </a:solidFill>
                <a:latin typeface="Comic Sans MS"/>
              </a:rPr>
              <a:t> is where your source material </a:t>
            </a:r>
            <a:r>
              <a:rPr b="1" lang="en-US" sz="2400" spc="-1" strike="noStrike">
                <a:solidFill>
                  <a:srgbClr val="000000"/>
                </a:solidFill>
                <a:latin typeface="Comic Sans MS"/>
              </a:rPr>
              <a:t>cited</a:t>
            </a:r>
            <a:r>
              <a:rPr b="0" lang="en-US" sz="2400" spc="-1" strike="noStrike">
                <a:solidFill>
                  <a:srgbClr val="000000"/>
                </a:solidFill>
                <a:latin typeface="Comic Sans MS"/>
              </a:rPr>
              <a:t> in your paper is listed. The </a:t>
            </a:r>
            <a:r>
              <a:rPr b="1" lang="en-US" sz="2400" spc="-1" strike="noStrike">
                <a:solidFill>
                  <a:srgbClr val="000000"/>
                </a:solidFill>
                <a:latin typeface="Comic Sans MS"/>
              </a:rPr>
              <a:t>bibliography </a:t>
            </a:r>
            <a:r>
              <a:rPr b="0" lang="en-US" sz="2400" spc="-1" strike="noStrike">
                <a:solidFill>
                  <a:srgbClr val="000000"/>
                </a:solidFill>
                <a:latin typeface="Comic Sans MS"/>
              </a:rPr>
              <a:t>includes general background material which you read but did not cite in your paper. </a:t>
            </a:r>
            <a:endParaRPr b="0" lang="en-US" sz="2400" spc="-1" strike="noStrike">
              <a:solidFill>
                <a:srgbClr val="000000"/>
              </a:solidFill>
              <a:latin typeface="Comic Sans MS"/>
            </a:endParaRPr>
          </a:p>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phrasing does not mean you do not need cite the sourc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ways quote the exact words of an author and surround them in quotation marks, citing the source within the body of the text and in the reference lis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 sure whether to cite a source, cite i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ing a few words of another author's work is still considered an act of plagiarism.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not start your paper the night before your paper is due. This may cause you to stress out enough to "cut corner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can I do to avoid Plagiarism?</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omic Sans MS"/>
              </a:rPr>
              <a:t>In Simple Terms…</a:t>
            </a:r>
            <a:endParaRPr b="0" lang="en-US" sz="2000" spc="-1" strike="noStrike">
              <a:solidFill>
                <a:srgbClr val="000000"/>
              </a:solidFill>
              <a:latin typeface="Comic Sans MS"/>
            </a:endParaRPr>
          </a:p>
          <a:p>
            <a:pPr marL="318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 what plagiarism is:</a:t>
            </a:r>
            <a:endParaRPr b="0" lang="en-US" sz="2000" spc="-1" strike="noStrike">
              <a:solidFill>
                <a:srgbClr val="000000"/>
              </a:solidFill>
              <a:latin typeface="Comic Sans MS"/>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90840" indent="-2656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gnorance will not excuse a violation.</a:t>
            </a:r>
            <a:endParaRPr b="0" lang="en-US" sz="1800" spc="-1" strike="noStrike">
              <a:solidFill>
                <a:srgbClr val="000000"/>
              </a:solidFill>
              <a:latin typeface="Comic Sans MS"/>
            </a:endParaRPr>
          </a:p>
          <a:p>
            <a:pPr lvl="1" marL="690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690840" indent="-2656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ntional plagiarism is deliberate copying or use of another's work without credit.</a:t>
            </a:r>
            <a:endParaRPr b="0" lang="en-US" sz="1800" spc="-1" strike="noStrike">
              <a:solidFill>
                <a:srgbClr val="000000"/>
              </a:solidFill>
              <a:latin typeface="Comic Sans MS"/>
            </a:endParaRPr>
          </a:p>
          <a:p>
            <a:pPr lvl="1" marL="690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690840" indent="-2656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ntentional plagiarism can result from not knowing citation standards ("I thought the Internet was free!"), from sloppy research and poor note-taking, or from careless "cutting and pasting" of electronic sources.</a:t>
            </a:r>
            <a:endParaRPr b="0" lang="en-US" sz="1800" spc="-1" strike="noStrike">
              <a:solidFill>
                <a:srgbClr val="000000"/>
              </a:solidFill>
              <a:latin typeface="Comic Sans MS"/>
            </a:endParaRPr>
          </a:p>
          <a:p>
            <a:pPr lvl="1" marL="6908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oth intentional AND unintentional plagiarism are violations of our Honor Cod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the first day of classes you are happy to discover the assigned essay is on a topic you wrote a paper on last term.  You print off a new copy and hand it in on the due date with a new cover page. Is this considered dishones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efore we even get to paraphrasing</a:t>
            </a:r>
            <a:r>
              <a:rPr b="0" lang="en-US" sz="2000" spc="-1" strike="noStrike">
                <a:solidFill>
                  <a:srgbClr val="000000"/>
                </a:solidFill>
                <a:latin typeface="Comic Sans MS"/>
              </a:rPr>
              <a:t>, let’s be clear…</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you are using someone else's exact words, you need to place quotations marks (". . .") around the words to show this.</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also need to be careful not to rephrase or reorganize these words; otherwise you would be guilty of misrepresenting that author.</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want to leave out part of the author's sentence you can use three ellipsis points (...) to show that words have been omitted.</a:t>
            </a:r>
            <a:endParaRPr b="0" lang="en-US" sz="2000" spc="-1" strike="noStrike">
              <a:solidFill>
                <a:srgbClr val="000000"/>
              </a:solidFill>
              <a:latin typeface="Comic Sans MS"/>
            </a:endParaRPr>
          </a:p>
          <a:p>
            <a:pPr marL="335880" indent="-3358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ly after the quotation, you should indicate where the information comes from, using MLA parenthetical documentation techniqu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phrase is stating someone else's ideas in your own words. If you think about it a little, you will realize that it's something that we all do, all the time. You watch the NBA finals on TV, you tell me the story of how Malone fell short and Jordan was a hero again, and I retell the story to my friend in my own wa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not acceptable to take the original phrasing and just rearrange a few of the original words in order to produce a paraphrase; neither is it acceptable to use the same sentence structure but just rephrase a few key word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One…</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iginal Sourc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frequently overuse direct quotation in taking notes, and as a result they overuse quotation in the final research paper. Probably only about 10% of your final manuscript should appear as directly quoted matter. Therefore, you should strive to limit the amount of exact transcribing of source materials while taking notes (Lester 46-47).</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ne…</a:t>
            </a:r>
            <a:endParaRPr b="0" lang="en-US" sz="2400" spc="-1" strike="noStrike">
              <a:solidFill>
                <a:srgbClr val="000000"/>
              </a:solidFill>
              <a:latin typeface="Comic Sans MS"/>
            </a:endParaRPr>
          </a:p>
          <a:p>
            <a:pPr marL="325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eptable paraphras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earch papers, students often quote excessively, failing to keep quoted material down to a desirable level. Since the problem usually originates during note taking, it is essential to minimize the material recorded verbati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One…</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plagiarized versio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often use too many direct quotations when they take notes, resulting in too many of them in the final research paper. In fact, probably only about 10% of the final copy should consist of directly quoted material. So it is important to limit the amount of source material copied while taking note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wo…</a:t>
            </a:r>
            <a:endParaRPr b="0" lang="en-US" sz="1800" spc="-1" strike="noStrike">
              <a:solidFill>
                <a:srgbClr val="000000"/>
              </a:solidFill>
              <a:latin typeface="Comic Sans MS"/>
            </a:endParaRPr>
          </a:p>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 If the existence of a signing ape was unsettling for linguists, it was also startling news for animal behaviorists (Davis 26).</a:t>
            </a:r>
            <a:endParaRPr b="0" lang="en-US" sz="1800" spc="-1" strike="noStrike">
              <a:solidFill>
                <a:srgbClr val="000000"/>
              </a:solidFill>
              <a:latin typeface="Comic Sans MS"/>
            </a:endParaRPr>
          </a:p>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rsion A</a:t>
            </a:r>
            <a:r>
              <a:rPr b="0" lang="en-US" sz="1800" spc="-1" strike="noStrike">
                <a:solidFill>
                  <a:srgbClr val="000000"/>
                </a:solidFill>
                <a:latin typeface="Comic Sans MS"/>
              </a:rPr>
              <a:t>: The existence of a signing ape unsettled linguists and startled animal behaviorists  (Davis, 26).</a:t>
            </a:r>
            <a:endParaRPr b="0" lang="en-US" sz="1800" spc="-1" strike="noStrike">
              <a:solidFill>
                <a:srgbClr val="000000"/>
              </a:solidFill>
              <a:latin typeface="Comic Sans MS"/>
            </a:endParaRPr>
          </a:p>
          <a:p>
            <a:pPr marL="329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a:t>
            </a:r>
            <a:r>
              <a:rPr b="0" lang="en-US" sz="1800" spc="-1" strike="noStrike">
                <a:solidFill>
                  <a:srgbClr val="000000"/>
                </a:solidFill>
                <a:latin typeface="Comic Sans MS"/>
              </a:rPr>
              <a:t>: Even though the writer has cited the source, the writer has not used  quotation marks around the direct quotation "the existence of a signing ape."  In  addition, the phrase "unsettled linguists and startled animal behaviorists" closely  resembles the wording of the sour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wo…</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 If the existence of a signing ape was unsettling for linguists, it was also startling news for animal behaviorists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rsion B</a:t>
            </a:r>
            <a:r>
              <a:rPr b="0" lang="en-US" sz="1800" spc="-1" strike="noStrike">
                <a:solidFill>
                  <a:srgbClr val="000000"/>
                </a:solidFill>
                <a:latin typeface="Comic Sans MS"/>
              </a:rPr>
              <a:t>: If the presence of a sign-language-using chimp was disturbing for scientists  studying language, it was also surprising to scientists studying animal behavior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a:t>
            </a:r>
            <a:r>
              <a:rPr b="0" lang="en-US" sz="1800" spc="-1" strike="noStrike">
                <a:solidFill>
                  <a:srgbClr val="000000"/>
                </a:solidFill>
                <a:latin typeface="Comic Sans MS"/>
              </a:rPr>
              <a:t> Still plagiarism.  Even though the writer has substituted synonyms and cited the  source, the writer is plagiarizing because the source's sentence structure is  unchange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wo…</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 If the existence of a signing ape was unsettling for linguists, it was also startling news for animal behaviorists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rsion C</a:t>
            </a:r>
            <a:r>
              <a:rPr b="0" lang="en-US" sz="1800" spc="-1" strike="noStrike">
                <a:solidFill>
                  <a:srgbClr val="000000"/>
                </a:solidFill>
                <a:latin typeface="Comic Sans MS"/>
              </a:rPr>
              <a:t>: According to Flora Davis, linguists and animal behaviorists were unprepared for  the news that a chimp could communicate with its trainers through sign language  (Davis 26).</a:t>
            </a:r>
            <a:endParaRPr b="0" lang="en-US" sz="1800" spc="-1" strike="noStrike">
              <a:solidFill>
                <a:srgbClr val="000000"/>
              </a:solidFill>
              <a:latin typeface="Comic Sans M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a:t>
            </a:r>
            <a:r>
              <a:rPr b="0" lang="en-US" sz="1800" spc="-1" strike="noStrike">
                <a:solidFill>
                  <a:srgbClr val="000000"/>
                </a:solidFill>
                <a:latin typeface="Comic Sans MS"/>
              </a:rPr>
              <a:t>: No plagiarism. This is an appropriate paraphrase of the original sentence.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hre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iginal source</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 (Williams, Joyce 1).</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placed in groups to work on a large project. The first time your group meets, you discuss the assignment and you each take a piece of the project to  complete. After the  compiled project is submitted, you are surprised to learn your group is asked to speak to the instructor about potential plagiarism in one of the sections. Can you be charged with plagiarism even if your section is properly footnoted?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hree…</a:t>
            </a:r>
            <a:endParaRPr b="0" lang="en-US" sz="18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re's an </a:t>
            </a:r>
            <a:r>
              <a:rPr b="1" lang="en-US" sz="1400" spc="-1" strike="noStrike">
                <a:solidFill>
                  <a:srgbClr val="000000"/>
                </a:solidFill>
                <a:latin typeface="Comic Sans MS"/>
              </a:rPr>
              <a:t>UNACCEPTABLE</a:t>
            </a:r>
            <a:r>
              <a:rPr b="0" lang="en-US" sz="1400" spc="-1" strike="noStrike">
                <a:solidFill>
                  <a:srgbClr val="000000"/>
                </a:solidFill>
                <a:latin typeface="Comic Sans MS"/>
              </a:rPr>
              <a:t> paraphrase that is </a:t>
            </a:r>
            <a:r>
              <a:rPr b="1" lang="en-US" sz="1400" spc="-1" strike="noStrike">
                <a:solidFill>
                  <a:srgbClr val="000000"/>
                </a:solidFill>
                <a:latin typeface="Comic Sans MS"/>
              </a:rPr>
              <a:t>plagiarism:</a:t>
            </a:r>
            <a:br>
              <a:rPr sz="1400"/>
            </a:br>
            <a:br>
              <a:rPr sz="1400"/>
            </a:br>
            <a:r>
              <a:rPr b="0" lang="en-US" sz="1400" spc="-1" strike="noStrike">
                <a:solidFill>
                  <a:srgbClr val="000000"/>
                </a:solidFill>
                <a:latin typeface="Comic Sans MS"/>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br>
              <a:rPr sz="1400"/>
            </a:b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at makes this passage plagiarism?</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writer has only changed around a few words and phrases, or changed the order of the original's sentences. </a:t>
            </a:r>
            <a:endParaRPr b="0" lang="en-US" sz="1400" spc="-1" strike="noStrike">
              <a:solidFill>
                <a:srgbClr val="000000"/>
              </a:solidFill>
              <a:latin typeface="Comic Sans MS"/>
            </a:endParaRPr>
          </a:p>
          <a:p>
            <a:pPr marL="343080" indent="-343080">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writer has failed to cite a source for any of the ideas or facts. </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f you do either or both of these things, you are plagiarizing.</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Three…</a:t>
            </a:r>
            <a:endParaRPr b="0" lang="en-US" sz="20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re's an </a:t>
            </a:r>
            <a:r>
              <a:rPr b="1" lang="en-US" sz="1600" spc="-1" strike="noStrike">
                <a:solidFill>
                  <a:srgbClr val="000000"/>
                </a:solidFill>
                <a:latin typeface="Comic Sans MS"/>
              </a:rPr>
              <a:t>ACCEPTABLE</a:t>
            </a:r>
            <a:r>
              <a:rPr b="0" lang="en-US" sz="1600" spc="-1" strike="noStrike">
                <a:solidFill>
                  <a:srgbClr val="000000"/>
                </a:solidFill>
                <a:latin typeface="Comic Sans MS"/>
              </a:rPr>
              <a:t> paraphrase:</a:t>
            </a:r>
            <a:endParaRPr b="0" lang="en-US" sz="16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endParaRPr b="0" lang="en-US" sz="1600" spc="-1" strike="noStrike">
              <a:solidFill>
                <a:srgbClr val="000000"/>
              </a:solidFill>
              <a:latin typeface="Comic Sans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hy is this passage acceptable?</a:t>
            </a:r>
            <a:endParaRPr b="0" lang="en-US" sz="16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urately relays the information in the original</a:t>
            </a:r>
            <a:endParaRPr b="0" lang="en-US" sz="16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s her own words. </a:t>
            </a:r>
            <a:endParaRPr b="0" lang="en-US" sz="1600" spc="-1" strike="noStrike">
              <a:solidFill>
                <a:srgbClr val="000000"/>
              </a:solidFill>
              <a:latin typeface="Comic Sans MS"/>
            </a:endParaRPr>
          </a:p>
          <a:p>
            <a:pPr marL="335880" indent="-3358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ts her reader know the source of her information.</a:t>
            </a:r>
            <a:r>
              <a:rPr b="1"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paraphrase?</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 Three…</a:t>
            </a:r>
            <a:endParaRPr b="0" lang="en-US" sz="1800" spc="-1" strike="noStrike">
              <a:solidFill>
                <a:srgbClr val="000000"/>
              </a:solidFill>
              <a:latin typeface="Comic Sans MS"/>
            </a:endParaRPr>
          </a:p>
          <a:p>
            <a:pPr marL="329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re's an example of quotation and paraphrase used together, which is also </a:t>
            </a:r>
            <a:r>
              <a:rPr b="1" lang="en-US" sz="1200" spc="-1" strike="noStrike">
                <a:solidFill>
                  <a:srgbClr val="000000"/>
                </a:solidFill>
                <a:latin typeface="Comic Sans MS"/>
              </a:rPr>
              <a:t>ACCEPTABLE</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endParaRPr b="0" lang="en-US" sz="1200" spc="-1" strike="noStrike">
              <a:solidFill>
                <a:srgbClr val="000000"/>
              </a:solidFill>
              <a:latin typeface="Comic Sans MS"/>
            </a:endParaRPr>
          </a:p>
          <a:p>
            <a:pPr marL="329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y is this passage acceptable?</a:t>
            </a:r>
            <a:endParaRPr b="0" lang="en-US" sz="12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is acceptable paraphrasing because the writer:</a:t>
            </a:r>
            <a:endParaRPr b="0" lang="en-US" sz="1200" spc="-1" strike="noStrike">
              <a:solidFill>
                <a:srgbClr val="000000"/>
              </a:solidFill>
              <a:latin typeface="Comic Sans MS"/>
            </a:endParaRPr>
          </a:p>
          <a:p>
            <a:pPr marL="329040" indent="-32904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ords the information in the original passage accurately. </a:t>
            </a:r>
            <a:endParaRPr b="0" lang="en-US" sz="1200" spc="-1" strike="noStrike">
              <a:solidFill>
                <a:srgbClr val="000000"/>
              </a:solidFill>
              <a:latin typeface="Comic Sans MS"/>
            </a:endParaRPr>
          </a:p>
          <a:p>
            <a:pPr marL="329040" indent="-32904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ives credit for the ideas in this passage. </a:t>
            </a:r>
            <a:endParaRPr b="0" lang="en-US" sz="1200" spc="-1" strike="noStrike">
              <a:solidFill>
                <a:srgbClr val="000000"/>
              </a:solidFill>
              <a:latin typeface="Comic Sans MS"/>
            </a:endParaRPr>
          </a:p>
          <a:p>
            <a:pPr marL="329040" indent="-32904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cated which part is taken directly from her source by putting the passage in quotation marks and citing the page number. </a:t>
            </a:r>
            <a:endParaRPr b="0" lang="en-US" sz="1200" spc="-1" strike="noStrike">
              <a:solidFill>
                <a:srgbClr val="000000"/>
              </a:solidFill>
              <a:latin typeface="Comic Sans MS"/>
            </a:endParaRPr>
          </a:p>
          <a:p>
            <a:pPr marL="329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ote that if the writer had used these phrases or sentences in her own paper without putting quotation marks around them, she would be PLAGIARIZING. Using another person's phrases or sentences without putting quotation marks around them is considered plagiarism EVEN IF THE WRITER CITES IN HER OWN TEXT THE SOURCE OF THE PHRASES OR SENTENCES SHE HAS QUOTED.</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So, how do I cite sources?</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MLA Style of parenthetical documentation.  Generally, this is the author's last name and the page number of the text from which it was taken. This must be done accurately. Form and punctuation cou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ust also include a complete list of sources (Works Cited and bibliography) at the end of your paper. This is not only to show your reader you have done your research, but to provide the reader with other sources in case s/he wants to read more on the subject. Again, this must be done according to established rule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must be cited?</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facts, figures, statistics that are not common knowledg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lver prices reached a nine-year high of $7.28 an ounce on February 5, 1998. Some analysts predict it will go to $10.00 an ounce in the next two months</a:t>
            </a:r>
            <a:br>
              <a:rPr sz="2000"/>
            </a:br>
            <a:r>
              <a:rPr b="0" lang="en-US" sz="2000" spc="-1" strike="noStrike">
                <a:solidFill>
                  <a:srgbClr val="000000"/>
                </a:solidFill>
                <a:latin typeface="Comic Sans MS"/>
              </a:rPr>
              <a:t>(Fuerbringer D1).</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must be cited, as it is not general knowledge.</a:t>
            </a:r>
            <a:endParaRPr b="0" lang="en-US" sz="2000" spc="-1" strike="noStrike">
              <a:solidFill>
                <a:srgbClr val="000000"/>
              </a:solidFill>
              <a:latin typeface="Comic Sans MS"/>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Declaration of Independence was written in 1776.</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is common knowledge, and does not need to be cited.</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must be cited?</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fic theories or ideas that have been put forth by another pers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not the poor pronunciation of discrete vowel and consonant sounds that interferes with communication so much as the use of the wrong intonation and stress patterns (Gilbert 21).</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What must be cited?</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y specific information that is NOT general knowledg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estimated that death from gunfire will soon take over from car accidents as the number one cause of traumatic death in America (Davidson A31).</a:t>
            </a:r>
            <a:br>
              <a:rPr sz="2400"/>
            </a:b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 best policy is: when in doubt as to whether something is common knowledge or not, cite your source.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an't I avoid problems just by listing every source in the bibliography?</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2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a:t>
            </a:r>
            <a:r>
              <a:rPr b="0" lang="en-US" sz="2800" spc="-1" strike="noStrike">
                <a:solidFill>
                  <a:srgbClr val="000000"/>
                </a:solidFill>
                <a:latin typeface="Comic Sans MS"/>
              </a:rPr>
              <a:t>, you need to integrate your acknowledgements into what you're saying. Give the reference as soon as you've mentioned the idea you are using--don't wait till the end of the paragraph. That may mean naming authors ("X says" and "Y argues against X,") and then going on to make your own com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If I put the ideas into my own words, do I still have to clog up my pages with all those names and number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rry--yes, you do</a:t>
            </a:r>
            <a:r>
              <a:rPr b="0" lang="en-US" sz="2400" spc="-1" strike="noStrike">
                <a:solidFill>
                  <a:srgbClr val="000000"/>
                </a:solidFill>
                <a:latin typeface="Comic Sans MS"/>
              </a:rPr>
              <a:t>. In academic papers, you need to keep mentioning authors and pages and dates to show how your ideas are related to those of the experts. It's sensible to use your own words to save space and to help connect ideas smoothly. But whether you quote a passage directly in quotation marks, paraphrase it closely in your own words, or just summarize it rapidly, you need to identify the source then and there.</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ut I didn't know anything about the subject until I started this paper. So do I have to give a reference for every point I mak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228"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ou're safer to over-reference than to skimp</a:t>
            </a:r>
            <a:r>
              <a:rPr b="0" lang="en-US" sz="1800" spc="-1" strike="noStrike">
                <a:solidFill>
                  <a:srgbClr val="000000"/>
                </a:solidFill>
                <a:latin typeface="Comic Sans MS"/>
              </a:rPr>
              <a:t>. But you can cut down the clutter by recognizing that some ideas are "common knowledge" in the field--that is, taken for granted by people knowledgeable about the topic. Facts easily found in reference books are considered common knowledge: the date of the Armistice for World War I, for example, or the present population of Canada. For such facts, you don't need to name a specific source, even if you learned them only when doing your research. In some classes, information covered in lectures doesn't need acknowledgement. Some interpretive ideas may also be so well accepted that they don't need referencing--that Picasso is a distinguished modernist painter, for instance, or that smoking is harmful to health. Check with your teacher if you're in doubt whether a specific point is considered common knowledge in your field.</a:t>
            </a: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frustrated about not getting the results you should during a lab experiment  You notice others at your lab table are finished and cleaning up their materials. You decide to change your lab results to the expected outcome and begin to clean up your lab area. Is this considered falsification of dat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How can I tell what's my own idea and what has come from something I read?</a:t>
            </a:r>
            <a:endParaRPr b="0" lang="en-US" sz="28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eful note-taking helps, </a:t>
            </a:r>
            <a:r>
              <a:rPr b="0" lang="en-US" sz="2000" spc="-1" strike="noStrike">
                <a:solidFill>
                  <a:srgbClr val="000000"/>
                </a:solidFill>
                <a:latin typeface="Comic Sans MS"/>
              </a:rPr>
              <a:t>so you know what names and dates to attach to specific ideas. It's worthwhile to write summarizing notes in your own words, putting quotation marks around any specific wordings you might want to quote. And make a deliberate effort, as you go through your readings, to note connections among ideas, especially contrasts and disagreements, as well as jotting down questions and thoughts of your own. If you find as you write that you're following one or two sources too closely, deliberately look back in your notes for other sources that take different views--then write about why the differences exis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They Said It So Much Better. Shouldn't I Use Their Words?</a:t>
            </a:r>
            <a:endParaRPr b="0" lang="en-US" sz="28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Yeah</a:t>
            </a:r>
            <a:r>
              <a:rPr b="0" lang="en-US" sz="2200" spc="-1" strike="noStrike">
                <a:solidFill>
                  <a:srgbClr val="000000"/>
                </a:solidFill>
                <a:latin typeface="Comic Sans MS"/>
              </a:rPr>
              <a:t>, and Michael Jordan can hit a fadeaway jump shot better than you can, and Miles Davis could play a better blues than you do on the trumpet. Learning to write is learning to think. Sure you won't have a lot of original thoughts, very few of us do. But you will have your original way of looking at things, which is a combination of everything you have done to this point in your life. As you read others' works and ponder, argue with, distill, reconcile yourself to, or reject them, you are growing intellectually, just as you would grow physically by lifting weights or playing the pian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Why shouldn’t I Plagiarize?</a:t>
            </a:r>
            <a:endParaRPr b="0" lang="en-US" sz="40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you plagiarize, you are cheating yourself. You don't learn to write out your thoughts in your own words, and you don't get specific feedback geared to your individual needs and skills. Plagiarizing a paper is like sending a friend to practice tennis for you - you'll never score an ace yourself!  </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agiarism is dishonest because it misrepresents the work of another as your own.  </a:t>
            </a: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lagiarism violates the Northern HS Honor Code [GCS] and can result in Suspension or Dismissal.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Why shouldn’t I Plagiarize?</a:t>
            </a:r>
            <a:endParaRPr b="0" lang="en-US" sz="40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giarism devalues others' original work. Submitting a professional writer's work as yours is taking an unfair advantage over students who do their own work.  </a:t>
            </a:r>
            <a:endParaRPr b="0" lang="en-US" sz="2400" spc="-1" strike="noStrike">
              <a:solidFill>
                <a:srgbClr val="000000"/>
              </a:solidFill>
              <a:latin typeface="Comic Sans MS"/>
            </a:endParaRPr>
          </a:p>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t is wrong to take or use property (an author's work) without giving the owner the value or credit due. Further, copyright violations can result in fines or damages.  </a:t>
            </a:r>
            <a:endParaRPr b="0" lang="en-US" sz="2400" spc="-1" strike="noStrike">
              <a:solidFill>
                <a:srgbClr val="000000"/>
              </a:solidFill>
              <a:latin typeface="Comic Sans MS"/>
            </a:endParaRPr>
          </a:p>
          <a:p>
            <a:pPr marL="325800" indent="-3258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thern HS’s reputation affects the value of your work; student dishonesty hurts our standing and can make your diploma worth 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What do I have to lose by cheating? It’s easy and sometimes I just</a:t>
            </a:r>
            <a:br>
              <a:rPr sz="2000"/>
            </a:br>
            <a:r>
              <a:rPr b="1" lang="en-US" sz="2000" spc="-1" strike="noStrike" u="sng">
                <a:solidFill>
                  <a:srgbClr val="000000"/>
                </a:solidFill>
                <a:uFillTx/>
                <a:latin typeface="Comic Sans MS"/>
              </a:rPr>
              <a:t>don’t have the time to do all the work that teachers give us…</a:t>
            </a:r>
            <a:endParaRPr b="0" lang="en-US" sz="20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giarism shows you don’t care about learn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management and the ability to find, document and interpret data are critical skills in the work place and in universities. If you don’t learn these skills NOW, when will you?</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suggests you don’t respect yourself, your classmates or your teache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essays and other papers available over the internet are of inferior qualit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In conclusion…</a:t>
            </a:r>
            <a:endParaRPr b="0" lang="en-US" sz="40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ly difference between a scholar and a thief is a footnote.“ --Bill Stanbury</a:t>
            </a:r>
            <a:endParaRPr b="0" lang="en-US" sz="2400" spc="-1" strike="noStrike">
              <a:solidFill>
                <a:srgbClr val="000000"/>
              </a:solidFill>
              <a:latin typeface="Comic Sans MS"/>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Samuel Johnston once admonished a student: "I found your speech to be good and original. Unfortunately, the part that was original was not good. And the part that was good was not original."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Bibliography</a:t>
            </a:r>
            <a:endParaRPr b="0" lang="en-US" sz="40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e You Playing Games of Chance with Your Academic Career." University of Manitoba, Canada, http://www.umanitoba.ca/student/advocacy/IntegrityQuiz4.html, June 2001, accessed March 18, 2005, </a:t>
            </a:r>
            <a:r>
              <a:rPr b="0" i="1" lang="en-US" sz="1600" spc="-1" strike="noStrike">
                <a:solidFill>
                  <a:srgbClr val="000000"/>
                </a:solidFill>
                <a:latin typeface="Comic Sans MS"/>
              </a:rPr>
              <a:t>modified from the  brochure  "A Word to the Wise from the Student Advocates", published by Advocacy and Support Services, Concordia University, September, 1998</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Avoiding Plagiarism.”  Student Judicial Affairs, University of California, Davis. http://sja.ucdavis.edu/avoid.htm, June 2002, accessed March 18, 2005.</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Avoiding Plagiarism.” Student Learning Services, Concordia University, http://cdev.concordia.ca/CnD/studentlearn/Help/handouts/WritingHO/AvoidingPlagiarism.html, May 2002, accessed March 18, 2005.</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nnecke, Patricia. “Expository Writing for Bilingual Students,”  Massachusetts Institute of Technology Libraries, http://libraries.mit.edu/guides/courses/fall2001/21f.222/plagiarism.html, May 2002, accessed March 18, 2005.</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ster, James D. Writing Research Papers. 2nd ed. [1976] 46-47.</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LA Handbook for Writers of Research Papers, 7th ed.</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457560"/>
            <a:ext cx="6870600" cy="1600200"/>
          </a:xfrm>
          <a:prstGeom prst="rect">
            <a:avLst/>
          </a:prstGeom>
          <a:noFill/>
          <a:ln w="0">
            <a:noFill/>
          </a:ln>
        </p:spPr>
        <p:txBody>
          <a:bodyPr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Bibliography</a:t>
            </a:r>
            <a:endParaRPr b="0" lang="en-US" sz="4000" spc="-1" strike="noStrike">
              <a:solidFill>
                <a:srgbClr val="000000"/>
              </a:solidFill>
              <a:latin typeface="Comic Sans MS"/>
            </a:endParaRPr>
          </a:p>
        </p:txBody>
      </p:sp>
      <p:sp>
        <p:nvSpPr>
          <p:cNvPr id="244" name="PlaceHolder 2"/>
          <p:cNvSpPr>
            <a:spLocks noGrp="1"/>
          </p:cNvSpPr>
          <p:nvPr>
            <p:ph/>
          </p:nvPr>
        </p:nvSpPr>
        <p:spPr>
          <a:xfrm>
            <a:off x="685800" y="1295280"/>
            <a:ext cx="7696080" cy="365760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Plagiarism: What It is and How to Recognize and Avoid It.” Indiana University Writing Tutorial Services, http://www.indiana.edu/~wts/wts/plagiarism.html, February 2001, accessed March 18, 2005.</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ter, Margaret.  “How Not to Plagiarize,” University of Toronto, Canada, http://www.utoronto.ca/writing/plagsep.html, March 2001, accessed March 18, 2005.</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What is Plagiarism?”  Georgetown University Honor Society Council, http://www.georgetown.edu/honor/plagiarism.html#getstuff, June 2002, accessed March 21, 2005.</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What is Plagiarism?” Old Dominion University Libraries, http://www.lib.odu.edu/research/Plagiarism/StudentHandout.htm, August 1999, accessed March 18, 2005, </a:t>
            </a:r>
            <a:r>
              <a:rPr b="0" i="1" lang="en-US" sz="1600" spc="-1" strike="noStrike">
                <a:solidFill>
                  <a:srgbClr val="000000"/>
                </a:solidFill>
                <a:latin typeface="Comic Sans MS"/>
              </a:rPr>
              <a:t>adapted from the StarQuest tutorial, ethics module, by Elizabeth Hogue, http://www.lib.odu.edu/research/tutorials/starquest/ethicsmodule .</a:t>
            </a:r>
            <a:endParaRPr b="0" lang="en-US" sz="1600" spc="-1" strike="noStrike">
              <a:solidFill>
                <a:srgbClr val="000000"/>
              </a:solidFill>
              <a:latin typeface="Comic Sans MS"/>
            </a:endParaRPr>
          </a:p>
          <a:p>
            <a:pPr marL="315360" indent="-3153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lliams, Joyce, </a:t>
            </a:r>
            <a:r>
              <a:rPr b="0" i="1" lang="en-US" sz="1600" spc="-1" strike="noStrike">
                <a:solidFill>
                  <a:srgbClr val="000000"/>
                </a:solidFill>
                <a:latin typeface="Comic Sans MS"/>
              </a:rPr>
              <a:t>Lizzie Borden: A Case Book of Family and Crime in the 1890’s, Page 1).</a:t>
            </a:r>
            <a:endParaRPr b="0" lang="en-US" sz="1600" spc="-1" strike="noStrike">
              <a:solidFill>
                <a:srgbClr val="000000"/>
              </a:solidFill>
              <a:latin typeface="Comic Sans MS"/>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llliams, Sharon.  “Avoiding Plagiarism,” Hamilton College, http://www.hamilton.edu/academics/resource/wc/AvoidingPlagiarism.html, June 2002, accessed March 18, 2005.</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y Answers</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578880" indent="-5788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it's called 'duplicate submission'.  It may be difficult to understand why you cannot submit work that is your own. However, there are reasons why this is a academically dishonest.  There is the expectation when you take a course that you will do new and original work for the course requirements. A student in the course is expected to do the same amount of work as all other students.  Further, if a student is to submit previously completed work a second time, that student has the unfair advantage of receiving feedback from the instructor who originally marked the paper.  Adding onto previous work (yours or others) is part of scholarship, however, even a researcher must reference him/herself when mentioning their previously completed work, published or unpublished. If you are in this situation and you want to write a paper on the same topic as before, speak to your professor. Take your original paper and discuss what you might do to satisfy the course requirements, but still focus on the same topic. i.e. research  a different aspec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y Answers</a:t>
            </a:r>
            <a:endParaRPr b="0" lang="en-US" sz="4400" spc="-1" strike="noStrike">
              <a:solidFill>
                <a:srgbClr val="000000"/>
              </a:solidFill>
              <a:latin typeface="Comic Sans MS"/>
            </a:endParaRPr>
          </a:p>
        </p:txBody>
      </p:sp>
      <p:sp>
        <p:nvSpPr>
          <p:cNvPr id="248"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578880" indent="-578880">
              <a:lnSpc>
                <a:spcPct val="90000"/>
              </a:lnSpc>
              <a:spcBef>
                <a:spcPts val="451"/>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When work is submitted by a group of individuals it is expected that all  will share in the responsibility of ensuring the work meets the assignment requirements and that it is appropriately referenced. Make sure all the group members read and agree with each others' sections before compiling the project and submitting it to the instructor. Keep copies of all the work you completed individually.</a:t>
            </a:r>
            <a:endParaRPr b="0" lang="en-US" sz="1800" spc="-1" strike="noStrike">
              <a:solidFill>
                <a:srgbClr val="000000"/>
              </a:solidFill>
              <a:latin typeface="Comic Sans MS"/>
            </a:endParaRPr>
          </a:p>
          <a:p>
            <a:pPr marL="578880" indent="-578880">
              <a:lnSpc>
                <a:spcPct val="90000"/>
              </a:lnSpc>
              <a:spcBef>
                <a:spcPts val="451"/>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Although it may be tempting to simply write in the results that are well-known, it is wrong to falsify your lab results. You can appreciate the potential for serious consequences if a student began this practice of 'fudging' their data in first year undergraduate courses  and carried it into graduate school and into research labs.  The honest thing to do in this situation is to state the results you did get and offer some  reasons why your experiment did not work ou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to include seven references in your essay assignment. You run out of time and add two articles to your bibliography that you did not use to write your paper.  Is this considered dishones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y Answers</a:t>
            </a:r>
            <a:endParaRPr b="0" lang="en-US" sz="4400" spc="-1" strike="noStrike">
              <a:solidFill>
                <a:srgbClr val="000000"/>
              </a:solidFill>
              <a:latin typeface="Comic Sans MS"/>
            </a:endParaRPr>
          </a:p>
        </p:txBody>
      </p:sp>
      <p:sp>
        <p:nvSpPr>
          <p:cNvPr id="250"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It is called 'padding' your bibliography or reference list. Do not include materials that you did not use or refer to in your paper.</a:t>
            </a: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You are responsible for safeguarding your own work.  You might be seen as assisting your friend to plagiarize or to cheat.</a:t>
            </a: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These sections of the paper are not authored by you, but by your friend. You would be misrepresenting yourself. It is good practice to have someone proofread your paper before submitting, but it is bad practice to have someone make direct changes to your paper.</a:t>
            </a: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es. If the expectation was for all students to submit their own individual work.  In this example the assignment was not worked on individually, it was worked on by three students.  If you are having difficulties with an assignment, speak to your teacher. Always keep rough drafts of your assignments to show that you did your own wor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friend asks to look at the paper you wrote last year because she is taking the same course this year. She says she wants it only as a guideline to help her get started.  You see her finished paper a few days later and notice she copied large sections from your paper. Could you be charged with dishonesty if the teacher remembers your paper?</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friend agrees to help you with your paper. She re-writes sections of your paper and you think her changes to your paper are excellent. She was able to write what you were unable to clearly explain . You hand in your paper confident of a high grade. Is this considered academic dishonesty?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Case Studies</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are stumped on an assignment while working in a computer lab on campus. You notice two of your classmates discussing the same assignment behind you.  You join them and work through the assignment together while one student types in the information on his computer. You each copy and paste the assignment onto your own disks and print off copies of the assignment to hand in to the instructor.  Could this collaboration be called into questio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u="sng">
                <a:solidFill>
                  <a:srgbClr val="000000"/>
                </a:solidFill>
                <a:uFillTx/>
                <a:latin typeface="Comic Sans MS"/>
              </a:rPr>
              <a:t>Definitions of Plagiarism</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6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omic Sans MS"/>
              </a:rPr>
              <a:t>How do </a:t>
            </a:r>
            <a:r>
              <a:rPr b="1" lang="es-CO" sz="4400" spc="-1" strike="noStrike" u="sng">
                <a:solidFill>
                  <a:srgbClr val="000000"/>
                </a:solidFill>
                <a:uFillTx/>
                <a:latin typeface="Comic Sans MS"/>
              </a:rPr>
              <a:t>you</a:t>
            </a:r>
            <a:r>
              <a:rPr b="0" lang="es-CO" sz="4400" spc="-1" strike="noStrike">
                <a:solidFill>
                  <a:srgbClr val="000000"/>
                </a:solidFill>
                <a:latin typeface="Comic Sans MS"/>
              </a:rPr>
              <a:t> define Plagiarism or Academic Dishonest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6:28:41Z</dcterms:created>
  <dc:creator>Thomas David Rompf</dc:creator>
  <dc:description/>
  <dc:language>en-US</dc:language>
  <cp:lastModifiedBy>mooneya2</cp:lastModifiedBy>
  <dcterms:modified xsi:type="dcterms:W3CDTF">2008-05-05T14:09:18Z</dcterms:modified>
  <cp:revision>19</cp:revision>
  <dc:subject/>
  <dc:title>Steal This Paper!</dc:title>
</cp:coreProperties>
</file>